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F43-3166-4CA5-86B1-D2D9BBC0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7C1-FE7E-4044-B45A-39D16F7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B4F-98F4-4FBC-ACA7-8B4C71D4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60F-5B54-42B0-8BC5-DEDCB25E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756-F41D-4350-991E-CFE15CB0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8C4-EE57-42D6-B714-0A798B25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FF6-DE45-4CB5-91AC-DDECAE09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D5F-9169-4800-8B10-7A55FCAD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D41C-3D4E-4D19-BE24-717E372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68A-4A87-4D0B-B6E6-3E8546C6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F0D-7F8D-4065-8D66-6518346A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A40-895F-4E36-93D6-429A317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E00E-803E-4771-85E6-6CEA99182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pbs.org/wgbh/nova/bees/hive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9200" y="3124080"/>
            <a:ext cx="576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Classroom U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52840" y="4724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162920" cy="112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800600"/>
            <a:ext cx="24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sy W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ley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ause and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867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assify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00600" y="5029200"/>
            <a:ext cx="1676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486400"/>
            <a:ext cx="16765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5029200"/>
            <a:ext cx="1641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486400"/>
            <a:ext cx="17524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486400"/>
            <a:ext cx="17114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572000"/>
            <a:ext cx="17524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0067 L -0.4 -0.32625 E">
                                      <p:cBhvr>
                                        <p:cTn id="10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6 0.0289 L 0.1 -0.41503 E">
                                      <p:cBhvr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91 -0.01549 L -0.04809 -0.32625 E">
                                      <p:cBhvr>
                                        <p:cTn id="11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17 0.0178 L -0.12083 -0.30405 E">
                                      <p:cBhvr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76 -0.0044 L 0.02309 -0.30405 E">
                                      <p:cBhvr>
                                        <p:cTn id="118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067 L 0.59583 -0.13757 E">
                                      <p:cBhvr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Exploring Perimeter and A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Math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523880"/>
            <a:ext cx="8229600" cy="4907160"/>
            <a:chOff x="380880" y="1523880"/>
            <a:chExt cx="8229600" cy="49071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8229600" cy="49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380880" y="1523880"/>
              <a:ext cx="8229600" cy="490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reate Simple Cy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533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37880" y="434340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6680" y="54100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rainstorming Animals in Different Hab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3504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477120" y="137160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105520"/>
            <a:ext cx="679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imal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pictures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 code animal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mparing Presid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8229600" cy="4983120"/>
            <a:chOff x="609480" y="1295280"/>
            <a:chExt cx="8229600" cy="498312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609480" y="1295280"/>
              <a:ext cx="8229600" cy="49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 txBox="1"/>
            <p:nvPr/>
          </p:nvSpPr>
          <p:spPr>
            <a:xfrm>
              <a:off x="609480" y="1295280"/>
              <a:ext cx="8229600" cy="498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Now and Long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2296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0880" y="1371600"/>
            <a:ext cx="3124440" cy="552600"/>
            <a:chOff x="380880" y="1371600"/>
            <a:chExt cx="3124440" cy="55260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12444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380880" y="1371600"/>
              <a:ext cx="3124440" cy="5526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505320" y="1447920"/>
            <a:ext cx="43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very useful softwar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440" y="2286000"/>
            <a:ext cx="806076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in computer lab/c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priate for elementary gr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d Frien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le Group/Individual 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ety of stud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7391520" cy="3581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5345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vailable for several area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s K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360" y="331920"/>
            <a:ext cx="228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Uses in the Class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WL Ch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200400" cy="2463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2971800" cy="2459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52880" y="4280040"/>
            <a:ext cx="387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 Idea/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Useful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89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828800"/>
            <a:ext cx="6400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lking Interfa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 Hyper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ll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ferred Word Process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rot="374400">
            <a:off x="6552720" y="2437920"/>
            <a:ext cx="18288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okman Old Style"/>
              </a:rPr>
              <a:t>Other Fea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42148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60044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343400"/>
            <a:ext cx="30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2949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133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7920" y="2209680"/>
            <a:ext cx="16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9840" y="315288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96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520" y="1523520"/>
            <a:ext cx="3049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2362320" y="159984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9548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124080" y="1523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324120" y="1523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541008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Process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07840" y="21337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057400"/>
            <a:ext cx="533160" cy="485640"/>
          </a:xfrm>
          <a:prstGeom prst="leftArrow">
            <a:avLst>
              <a:gd name="adj1" fmla="val 50000"/>
              <a:gd name="adj2" fmla="val 274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678168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07280" y="287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Brainstorm Parts of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94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085760" cy="5181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6211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pictures from menu bar or typ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638680"/>
            <a:ext cx="381240" cy="609840"/>
          </a:xfrm>
          <a:prstGeom prst="upArrow">
            <a:avLst>
              <a:gd name="adj1" fmla="val 50000"/>
              <a:gd name="adj2" fmla="val 39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822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y new dog is great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When his cute tail wagged, we just had to take him home with us. We call him Hap because he is a happy dog. His tan fur is so pretty.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I love to pet hi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soft fur.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He is so big that my little brother rides on his back.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He gets very tired after he plays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love everything about my dog, Hap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286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914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0796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295280"/>
            <a:ext cx="42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1080" y="15606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760" y="15238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opic Sentence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ajor Detail   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inor Det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03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534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22:19:58Z</dcterms:created>
  <dc:creator>Test</dc:creator>
  <dc:description/>
  <dc:language>en-US</dc:language>
  <cp:lastModifiedBy>Administrator</cp:lastModifiedBy>
  <dcterms:modified xsi:type="dcterms:W3CDTF">2009-05-21T13:18:49Z</dcterms:modified>
  <cp:revision>14</cp:revision>
  <dc:subject/>
  <dc:title>Slide 1</dc:title>
</cp:coreProperties>
</file>